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858B6-C7F3-42DD-8E7C-F8B7AED08F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7A68-DE3B-416F-A9DE-A6FFE566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3B4A4-80AE-4955-AF2A-06839626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6F28E-AD89-48C4-BC00-DAE6A1CCB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1C34F-09B9-4920-91F4-0E774C43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08CC-CCFE-4731-91F8-3941B5A4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99FD5-DC0A-41EE-9C3A-D098D0A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5B2CD-9C37-468F-9A07-3EC412FC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ED15F-31E4-4E38-A93D-624DEBCA0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F9D32-780B-4EC1-9D02-FAFA8C55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99603-0133-46B6-AB21-95E2112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1FF7D-9129-48A1-A170-6A797AEF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7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B04D-DB3C-4CD5-BDC8-A6EE13BFDC76}" type="slidenum">
              <a:rPr b="0" lang="en-US" sz="12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520" y="6362640"/>
            <a:ext cx="50655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5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060280"/>
            <a:ext cx="85122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Hawk M81   </a:t>
            </a: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“Urban Active“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OPC Status Report at S25/M2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3502080"/>
            <a:ext cx="83185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an Strecker / Christopher Vog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Antje He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CPM BA: 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	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Markus Ai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1640" y="5305320"/>
            <a:ext cx="4572000" cy="122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Jürgen Schm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Technical Projec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文鼎中黑"/>
              </a:rPr>
              <a:t>13th Jun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92C2E-244E-41E9-ACC1-E8A8C328ED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00720" y="836640"/>
            <a:ext cx="4467240" cy="22996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Cost vs.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irect R&amp;D  3’23€ (current) vs. 2’97€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(R&amp;D cost deviation of 9%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K deviation  2% (1,23€) (because of volume and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C decreas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ime-to-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25/M2 19.06.06 (current) vs.12.06.06 (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DS 11.08.06 vs. DS 11.08.06 (M1 targe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00720" y="3213000"/>
            <a:ext cx="4467240" cy="217548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Allocati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inor risk seen on production capacity vs. demand (in connection with Philippe overall capacity 210k/month;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wk orders: Oct 110k/Nov. 114k; Philippe: Oct. 80k/Nov. 75k</a:t>
            </a: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aterial availability/Production 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00720" y="5445000"/>
            <a:ext cx="4467240" cy="8139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OM            75,4€ (current, incl. 2% variant adder)   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	</a:t>
            </a:r>
            <a:r>
              <a:rPr b="0" lang="en-GB" sz="14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  vs. 72,6€ (targ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GB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5704" t="18238" r="60627" b="34527"/>
          <a:stretch/>
        </p:blipFill>
        <p:spPr>
          <a:xfrm>
            <a:off x="250920" y="1125360"/>
            <a:ext cx="4105080" cy="43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B051-A016-45B3-9572-5ECC1452BB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356000" y="765000"/>
            <a:ext cx="4464000" cy="248940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Hardware/Rad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0,5 dB decrease on edges in PCS 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ompliance and Approva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No issu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Mechan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 timeline; partial de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Still poor cosmetic quality of TPE materi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lue/white variant samples very late due to late design fixing and delay in material availabi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Quality Gate Rating Hawk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Times New Roman"/>
              </a:rPr>
              <a:t>S25/M2 Status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3384720"/>
            <a:ext cx="4467240" cy="2498760"/>
          </a:xfrm>
          <a:prstGeom prst="rect">
            <a:avLst/>
          </a:prstGeom>
          <a:solidFill>
            <a:srgbClr val="ec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182520" indent="-1825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a0e66"/>
                </a:solidFill>
                <a:uFillTx/>
                <a:latin typeface="Times New Roman"/>
                <a:ea typeface="文鼎中黑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verall Prod. Quality / System T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urrent return rate estimation 9% (5,4%SW+3,6%HW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Critical: time schedule for S3 because less than 50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   </a:t>
            </a: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of B2 Test run will be finished until start of Pilot (07.07.06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Project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spcBef>
                <a:spcPts val="374"/>
              </a:spcBef>
              <a:buClr>
                <a:srgbClr val="3a0e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Team declared M2/S25 on 19.06.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5704" t="18238" r="60627" b="34512"/>
          <a:stretch/>
        </p:blipFill>
        <p:spPr>
          <a:xfrm>
            <a:off x="250920" y="1197000"/>
            <a:ext cx="410508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1C4A7-46E2-4B7D-A534-8CD6562C0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720960" y="1301760"/>
            <a:ext cx="749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-71640" bIns="-71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0000" bIns="90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a0e66"/>
                </a:solidFill>
                <a:latin typeface="Minion"/>
              </a:rPr>
              <a:t>HAWK status at S25/M2</a:t>
            </a:r>
            <a:br>
              <a:rPr sz="2000"/>
            </a:br>
            <a:r>
              <a:rPr b="0" lang="en-GB" sz="1600" spc="-1" strike="noStrike">
                <a:solidFill>
                  <a:srgbClr val="3a0e66"/>
                </a:solidFill>
                <a:latin typeface="Minion"/>
              </a:rPr>
              <a:t>Product House Costs</a:t>
            </a:r>
            <a:endParaRPr b="1" lang="en-US" sz="16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"/>
          <p:cNvSpPr/>
          <p:nvPr/>
        </p:nvSpPr>
        <p:spPr>
          <a:xfrm>
            <a:off x="469800" y="1092240"/>
            <a:ext cx="8356680" cy="5156280"/>
          </a:xfrm>
          <a:prstGeom prst="rect">
            <a:avLst/>
          </a:prstGeom>
          <a:noFill/>
          <a:ln w="22320">
            <a:solidFill>
              <a:srgbClr val="3a0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9800" y="1101600"/>
            <a:ext cx="8332920" cy="513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F43C-193A-4699-9E68-95D94FAE1D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Times New Roman"/>
              </a:rPr>
              <a:t>Required management support </a:t>
            </a:r>
            <a:endParaRPr b="1" lang="en-US" sz="2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6784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Times New Roman"/>
              </a:rPr>
              <a:t>OPC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accep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-630360">
              <a:lnSpc>
                <a:spcPct val="100000"/>
              </a:lnSpc>
              <a:spcBef>
                <a:spcPts val="451"/>
              </a:spcBef>
              <a:buClr>
                <a:srgbClr val="3a0e66"/>
              </a:buClr>
              <a:buFont typeface="Times New Roman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Times New Roman"/>
              </a:rPr>
              <a:t>rejects the milestone declaration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63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398952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637160"/>
            <a:ext cx="380880" cy="304560"/>
          </a:xfrm>
          <a:prstGeom prst="rect">
            <a:avLst/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1583D-0AAE-48FA-84EA-6C3E43D1BC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48000" y="2852280"/>
            <a:ext cx="223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Times New Roma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F4183-7674-4FD3-A768-B16ECD14CD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Juergen Schmitz</cp:lastModifiedBy>
  <dcterms:modified xsi:type="dcterms:W3CDTF">2006-07-03T14:28:45Z</dcterms:modified>
  <cp:revision>144</cp:revision>
  <dc:subject/>
  <dc:title>PowerPoint 簡報</dc:title>
</cp:coreProperties>
</file>